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CCB5-EE11-4970-9425-B372E679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5286B4-4880-4335-82F5-2A985D831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30CA-5EDA-4838-9AD0-B24CF2C7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AB1B-D05B-4018-A0EF-EA889092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DC7-90F0-421E-A2FB-D9F588227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52B-FC6E-4523-BBBE-8517594CA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C7A1-F21F-499A-AB2F-2780A33F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9B84-B8EB-41C6-9BCA-3A3CC08D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9CE5-802B-43BE-9F85-41E23EB98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CE67-21F8-436A-B8CD-499A972D0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D8EC-59D4-4162-83F2-8BFD708C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D20F-89E1-4513-9857-4F259DAFF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4CE0-67F0-4E8D-A582-CBB934034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C2C2-A948-4404-932D-440350D5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002-C9F5-49A6-9F29-583D9FB58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DB1E-BC6C-4665-8C3A-E0AF6B1D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EAAD-954B-44E1-92C9-A57C4D0A4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0603-E90D-4BCE-8B34-BC646B17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EE97-37D0-40F1-BA80-B57F2860A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BA5B-881E-4979-A57F-E0D139BC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2B7D-472D-42E1-865C-543A232EB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02C5-721E-41DE-B45A-1502F331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25C7-542C-4BE8-A116-B529B8FF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AA1A-D0EB-4A54-BE51-7D5EE3479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CA51-9E18-4091-9492-A628EC3C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EC6D-EF01-4F8F-948A-DC21AD5AF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CD8D-A1CA-44DA-BB15-B007CDD02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841-B4AC-4055-97DD-636ABB7A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9581-5B3F-44C8-A761-015FC05F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95BE-2F98-45AF-9A71-F55EC4DE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BB2F-91C6-4DF6-9A25-18FD1230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77F9-1BC8-4D50-B61E-AF8A3CD3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A0EC-2FDE-4CBD-8B3D-4B4799EE0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92C3-E5E6-4E34-859F-C9E4C9FB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1D4-8803-433B-A6D1-1925E81E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884-0567-4CD8-B03D-EA4BD0C1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9C0-3CED-42F3-89D7-46F928EC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C93-DD3E-4077-BF78-919C894B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3B2D0-2F76-40ED-BDAC-F7C15CAEC5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79726-9E36-4029-9BC2-ADEC3DE9C3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C2AEB-2E47-4B13-BFF6-04F7E012BC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81584-D9FE-4178-83B4-DA389A7FBB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4FDCB-C575-4697-A7AC-5BB976A1CC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F43B1-A7E1-4122-9323-BAC4472647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BEE4D-8BD9-4834-92B7-24E7041128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A94-6762-4C67-B915-9BD310C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55E15-2B1C-41B8-8E44-4C500A1DB9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BC547-D071-4315-BB39-B6909E08BA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04BE-99E5-4666-A71B-7EB1EA995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0EEE8-541B-44A9-BC36-8D8866F0FF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54A87-F972-45C4-9060-3931E70A06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AD918-7B79-4110-A4DE-9C0560BBD5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FFAFE-7C46-406D-BD51-958197A32A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6D041-A9B0-4F32-B755-CE6B8708E7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BEB42-1E7F-4475-955F-71FE28A05B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EFCD8-2306-4E51-BE77-0767BAC5A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5C4-3A1B-4ECA-8329-078B78D5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7BE5C-428F-4CEB-81A9-E06C1A4B7B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A7ED7-61B7-46CE-B1DA-AFA2C749AF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A6034-E8C2-4BA5-BB1E-81850155A7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10C77-A678-4411-8DBA-53B980211F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27B32-1F8F-4AFF-B23F-EB09CE74C6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31B4B-5DC9-4F11-85FD-0FFD53FCC3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DA470-CCAE-4B72-BB3C-5718B3991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860-41B3-40C5-A115-DD99F033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B9F-CDB4-4494-A00D-3A7812F6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3EA-96D5-4C30-B6B5-6401C26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EA0-EC9C-4B36-9A7B-4992008E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DC5-04E0-443C-AB9E-C350685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B69-5BB0-4C95-A0A3-6EE8879D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2F9B-3123-430B-B52C-AA2F9B97C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272C-0847-4BD0-BB6D-F2784972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02A7-5A9D-4D79-99BE-F5400F688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ma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 (position and orientation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a Rigi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3CE-CA81-4AF9-8276-9B27127D2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41520" y="4368960"/>
                <a:ext cx="17143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701640" y="5299200"/>
                <a:ext cx="38433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2758-A23E-41C9-B43A-A2B1E4FBC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609480" y="3013200"/>
                <a:ext cx="38451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Text Box 4"/>
          <p:cNvSpPr/>
          <p:nvPr/>
        </p:nvSpPr>
        <p:spPr>
          <a:xfrm>
            <a:off x="228600" y="1371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06880" y="4497480"/>
                <a:ext cx="635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4070520" y="4343400"/>
                <a:ext cx="1650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0"/>
              <p:cNvSpPr txBox="1"/>
              <p:nvPr/>
            </p:nvSpPr>
            <p:spPr>
              <a:xfrm>
                <a:off x="914400" y="1981080"/>
                <a:ext cx="39211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6" name="Group 82"/>
          <p:cNvGrpSpPr/>
          <p:nvPr/>
        </p:nvGrpSpPr>
        <p:grpSpPr>
          <a:xfrm>
            <a:off x="5867280" y="2209680"/>
            <a:ext cx="2742840" cy="2414880"/>
            <a:chOff x="5867280" y="2209680"/>
            <a:chExt cx="2742840" cy="2414880"/>
          </a:xfrm>
        </p:grpSpPr>
        <p:grpSp>
          <p:nvGrpSpPr>
            <p:cNvPr id="377" name="Group 5"/>
            <p:cNvGrpSpPr/>
            <p:nvPr/>
          </p:nvGrpSpPr>
          <p:grpSpPr>
            <a:xfrm>
              <a:off x="5867280" y="2209680"/>
              <a:ext cx="2742840" cy="2414880"/>
              <a:chOff x="5867280" y="2209680"/>
              <a:chExt cx="2742840" cy="2414880"/>
            </a:xfrm>
          </p:grpSpPr>
          <mc:AlternateContent>
            <mc:Choice xmlns:a14="http://schemas.microsoft.com/office/drawing/2010/main" Requires="a14">
              <p:sp>
                <p:nvSpPr>
                  <p:cNvPr id="378" name="Object 6"/>
                  <p:cNvSpPr txBox="1"/>
                  <p:nvPr/>
                </p:nvSpPr>
                <p:spPr>
                  <a:xfrm>
                    <a:off x="6045840" y="4394160"/>
                    <a:ext cx="23832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9" name="Line 7"/>
              <p:cNvSpPr/>
              <p:nvPr/>
            </p:nvSpPr>
            <p:spPr>
              <a:xfrm>
                <a:off x="6857280" y="3831480"/>
                <a:ext cx="16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 flipV="1">
                <a:off x="6857280" y="2382840"/>
                <a:ext cx="0" cy="144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Object 9"/>
                  <p:cNvSpPr txBox="1"/>
                  <p:nvPr/>
                </p:nvSpPr>
                <p:spPr>
                  <a:xfrm>
                    <a:off x="6917040" y="2209680"/>
                    <a:ext cx="238320" cy="20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2" name="Object 10"/>
                  <p:cNvSpPr txBox="1"/>
                  <p:nvPr/>
                </p:nvSpPr>
                <p:spPr>
                  <a:xfrm>
                    <a:off x="8348400" y="3930840"/>
                    <a:ext cx="261720" cy="27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3" name="Object 11"/>
                  <p:cNvSpPr txBox="1"/>
                  <p:nvPr/>
                </p:nvSpPr>
                <p:spPr>
                  <a:xfrm>
                    <a:off x="8049960" y="2904480"/>
                    <a:ext cx="1926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Object 12"/>
                  <p:cNvSpPr txBox="1"/>
                  <p:nvPr/>
                </p:nvSpPr>
                <p:spPr>
                  <a:xfrm>
                    <a:off x="6180480" y="2441160"/>
                    <a:ext cx="25812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5" name="Group 13"/>
              <p:cNvGrpSpPr/>
              <p:nvPr/>
            </p:nvGrpSpPr>
            <p:grpSpPr>
              <a:xfrm>
                <a:off x="6399720" y="2952720"/>
                <a:ext cx="1840320" cy="909360"/>
                <a:chOff x="6399720" y="2952720"/>
                <a:chExt cx="1840320" cy="909360"/>
              </a:xfrm>
            </p:grpSpPr>
            <p:sp>
              <p:nvSpPr>
                <p:cNvPr id="386" name="Line 14"/>
                <p:cNvSpPr/>
                <p:nvPr/>
              </p:nvSpPr>
              <p:spPr>
                <a:xfrm flipV="1">
                  <a:off x="6859080" y="3189960"/>
                  <a:ext cx="1380960" cy="67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5"/>
                <p:cNvSpPr/>
                <p:nvPr/>
              </p:nvSpPr>
              <p:spPr>
                <a:xfrm flipH="1" flipV="1">
                  <a:off x="6399720" y="2952720"/>
                  <a:ext cx="423720" cy="87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Line 16"/>
              <p:cNvSpPr/>
              <p:nvPr/>
            </p:nvSpPr>
            <p:spPr>
              <a:xfrm flipV="1">
                <a:off x="6857280" y="3078360"/>
                <a:ext cx="83448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>
                <a:off x="7692120" y="3078360"/>
                <a:ext cx="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"/>
              <p:cNvSpPr/>
              <p:nvPr/>
            </p:nvSpPr>
            <p:spPr>
              <a:xfrm flipH="1">
                <a:off x="6857280" y="30783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9"/>
              <p:cNvSpPr/>
              <p:nvPr/>
            </p:nvSpPr>
            <p:spPr>
              <a:xfrm>
                <a:off x="7692120" y="3078360"/>
                <a:ext cx="119160" cy="289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0"/>
              <p:cNvSpPr/>
              <p:nvPr/>
            </p:nvSpPr>
            <p:spPr>
              <a:xfrm flipH="1">
                <a:off x="6678000" y="3078360"/>
                <a:ext cx="1013400" cy="463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21"/>
                  <p:cNvSpPr txBox="1"/>
                  <p:nvPr/>
                </p:nvSpPr>
                <p:spPr>
                  <a:xfrm>
                    <a:off x="7572960" y="2673000"/>
                    <a:ext cx="304200" cy="31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Line 22"/>
              <p:cNvSpPr/>
              <p:nvPr/>
            </p:nvSpPr>
            <p:spPr>
              <a:xfrm flipH="1">
                <a:off x="5867280" y="3814560"/>
                <a:ext cx="1013760" cy="69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23"/>
              <p:cNvSpPr/>
              <p:nvPr/>
            </p:nvSpPr>
            <p:spPr>
              <a:xfrm flipH="1">
                <a:off x="6284520" y="3814560"/>
                <a:ext cx="5961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6" name="Object 24"/>
                  <p:cNvSpPr txBox="1"/>
                  <p:nvPr/>
                </p:nvSpPr>
                <p:spPr>
                  <a:xfrm>
                    <a:off x="6403680" y="4104360"/>
                    <a:ext cx="21492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97" name="Arc 48"/>
            <p:cNvSpPr/>
            <p:nvPr/>
          </p:nvSpPr>
          <p:spPr>
            <a:xfrm flipV="1">
              <a:off x="7238880" y="35053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</a:path>
                <a:path stroke="0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  <a:lnTo>
                    <a:pt x="0" y="160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49"/>
                <p:cNvSpPr txBox="1"/>
                <p:nvPr/>
              </p:nvSpPr>
              <p:spPr>
                <a:xfrm>
                  <a:off x="7543800" y="3505320"/>
                  <a:ext cx="233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Object 19"/>
              <p:cNvSpPr txBox="1"/>
              <p:nvPr/>
            </p:nvSpPr>
            <p:spPr>
              <a:xfrm>
                <a:off x="1143000" y="3429000"/>
                <a:ext cx="3405240" cy="33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08B4-9F17-49F3-8A1B-E1ECC62B8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y-axi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z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5"/>
              <p:cNvSpPr txBox="1"/>
              <p:nvPr/>
            </p:nvSpPr>
            <p:spPr>
              <a:xfrm>
                <a:off x="1295280" y="5715000"/>
                <a:ext cx="18464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4511520" y="1447920"/>
                <a:ext cx="39308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4505400" y="3200400"/>
                <a:ext cx="40957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4446720" y="502920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5410080" y="114300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0"/>
              <p:cNvSpPr txBox="1"/>
              <p:nvPr/>
            </p:nvSpPr>
            <p:spPr>
              <a:xfrm>
                <a:off x="5410080" y="26668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1"/>
              <p:cNvSpPr txBox="1"/>
              <p:nvPr/>
            </p:nvSpPr>
            <p:spPr>
              <a:xfrm>
                <a:off x="5410080" y="47242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B00C-5F36-4153-A77C-73D2C48E3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attached to a rotating frame, the frame rotates 60 degree about the OZ axis of the reference frame.  Find the coordinates of the point relative to the reference frame after the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2046240" y="1447920"/>
                <a:ext cx="1474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2133720" y="3733920"/>
                <a:ext cx="48006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w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6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3C67-2625-439E-839F-957F29218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the coordinate w.r.t. the reference coordinate system, find the corresponding point         w.r.t. the rotated OUVW coordinate system if it has been rotated 60 degree about OZ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286000" y="129528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"/>
              <p:cNvSpPr txBox="1"/>
              <p:nvPr/>
            </p:nvSpPr>
            <p:spPr>
              <a:xfrm>
                <a:off x="4343400" y="21337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20" name="Object 10"/>
          <p:cNvGraphicFramePr/>
          <p:nvPr/>
        </p:nvGraphicFramePr>
        <p:xfrm>
          <a:off x="2057400" y="3505320"/>
          <a:ext cx="487692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8769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16F3-A18E-439E-80D1-22075AC4E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of finite r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s do not com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principal axis of OXYZ frame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fixed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its own principal axes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t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current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DD92-76D0-4B0E-839F-6AC04FF03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with respect to Curren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54DB-213C-4E51-9C39-58734F80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09480" y="1851120"/>
                <a:ext cx="1905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92200" y="2484360"/>
                <a:ext cx="1940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2200" y="3370320"/>
                <a:ext cx="19749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09480" y="4572000"/>
                <a:ext cx="4711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703440" y="5351400"/>
                <a:ext cx="2320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685800" y="5943600"/>
                <a:ext cx="3014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858A-57DA-45EE-8282-935BD2FFF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57200" y="586728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457200" y="541008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15"/>
          <p:cNvGraphicFramePr/>
          <p:nvPr/>
        </p:nvGraphicFramePr>
        <p:xfrm>
          <a:off x="182520" y="2960640"/>
          <a:ext cx="3932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60640"/>
                    <a:ext cx="3932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1" name="Object 16"/>
              <p:cNvSpPr txBox="1"/>
              <p:nvPr/>
            </p:nvSpPr>
            <p:spPr>
              <a:xfrm>
                <a:off x="4343400" y="2371680"/>
                <a:ext cx="4713120" cy="24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5778-9184-4B29-A1B8-B61E4C31B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0" y="2666880"/>
                <a:ext cx="3978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3962520" y="2371680"/>
                <a:ext cx="50292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Text Box 14"/>
          <p:cNvSpPr/>
          <p:nvPr/>
        </p:nvSpPr>
        <p:spPr>
          <a:xfrm>
            <a:off x="457200" y="502920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57200" y="548640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C719-D792-4E1D-B6B7-C8B0CC614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5"/>
              <p:cNvSpPr txBox="1"/>
              <p:nvPr/>
            </p:nvSpPr>
            <p:spPr>
              <a:xfrm>
                <a:off x="336600" y="256860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14"/>
          <p:cNvSpPr/>
          <p:nvPr/>
        </p:nvSpPr>
        <p:spPr>
          <a:xfrm>
            <a:off x="1219320" y="5410080"/>
            <a:ext cx="57909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219320" y="5867280"/>
            <a:ext cx="57909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937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 (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8267760" y="3201840"/>
                <a:ext cx="20160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Line 4"/>
          <p:cNvSpPr/>
          <p:nvPr/>
        </p:nvSpPr>
        <p:spPr>
          <a:xfrm flipV="1">
            <a:off x="5530680" y="1266480"/>
            <a:ext cx="0" cy="18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5530680" y="3100320"/>
            <a:ext cx="286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5141880" y="1266840"/>
                <a:ext cx="222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Line 7"/>
          <p:cNvSpPr/>
          <p:nvPr/>
        </p:nvSpPr>
        <p:spPr>
          <a:xfrm flipV="1">
            <a:off x="5530680" y="2383920"/>
            <a:ext cx="1727280" cy="71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7304040" y="202716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7176960" y="3160800"/>
                <a:ext cx="1810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5202360" y="2260440"/>
                <a:ext cx="2016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585720" y="1454040"/>
                <a:ext cx="13557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4"/>
          <p:cNvSpPr/>
          <p:nvPr/>
        </p:nvSpPr>
        <p:spPr>
          <a:xfrm>
            <a:off x="1898640" y="1965240"/>
            <a:ext cx="26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column”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981000" y="2928960"/>
                <a:ext cx="1998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8"/>
              <p:cNvSpPr txBox="1"/>
              <p:nvPr/>
            </p:nvSpPr>
            <p:spPr>
              <a:xfrm>
                <a:off x="587520" y="4065480"/>
                <a:ext cx="369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5" name="Text Box 26"/>
          <p:cNvSpPr/>
          <p:nvPr/>
        </p:nvSpPr>
        <p:spPr>
          <a:xfrm>
            <a:off x="2313000" y="402264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1219320" y="43290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351160" y="505152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H="1">
            <a:off x="1333440" y="52182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600120" y="4871880"/>
                <a:ext cx="4064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238880" y="241128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238880" y="271620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1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17220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6934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A16-3408-4567-9006-542F3F654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5"/>
              <p:cNvSpPr txBox="1"/>
              <p:nvPr/>
            </p:nvSpPr>
            <p:spPr>
              <a:xfrm>
                <a:off x="336600" y="241632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533520" y="5334120"/>
                <a:ext cx="6030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395F-BEE2-471D-99F4-D7C6B2C66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Roll Pitch Y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9"/>
          <p:cNvGrpSpPr/>
          <p:nvPr/>
        </p:nvGrpSpPr>
        <p:grpSpPr>
          <a:xfrm>
            <a:off x="4801320" y="2581200"/>
            <a:ext cx="4035600" cy="3517200"/>
            <a:chOff x="4801320" y="2581200"/>
            <a:chExt cx="4035600" cy="3517200"/>
          </a:xfrm>
        </p:grpSpPr>
        <p:grpSp>
          <p:nvGrpSpPr>
            <p:cNvPr id="464" name="Group 4"/>
            <p:cNvGrpSpPr/>
            <p:nvPr/>
          </p:nvGrpSpPr>
          <p:grpSpPr>
            <a:xfrm>
              <a:off x="5332320" y="3060360"/>
              <a:ext cx="3200400" cy="2743200"/>
              <a:chOff x="5332320" y="3060360"/>
              <a:chExt cx="3200400" cy="2743200"/>
            </a:xfrm>
          </p:grpSpPr>
          <p:sp>
            <p:nvSpPr>
              <p:cNvPr id="465" name="Line 5"/>
              <p:cNvSpPr/>
              <p:nvPr/>
            </p:nvSpPr>
            <p:spPr>
              <a:xfrm flipV="1">
                <a:off x="6703920" y="3060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6"/>
              <p:cNvSpPr/>
              <p:nvPr/>
            </p:nvSpPr>
            <p:spPr>
              <a:xfrm flipH="1">
                <a:off x="5332320" y="4889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7"/>
              <p:cNvSpPr/>
              <p:nvPr/>
            </p:nvSpPr>
            <p:spPr>
              <a:xfrm>
                <a:off x="6703920" y="4889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"/>
              <p:cNvSpPr/>
              <p:nvPr/>
            </p:nvSpPr>
            <p:spPr>
              <a:xfrm>
                <a:off x="6399000" y="3593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"/>
              <p:cNvSpPr/>
              <p:nvPr/>
            </p:nvSpPr>
            <p:spPr>
              <a:xfrm rot="16336800">
                <a:off x="5724360" y="5194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 rot="5753400">
                <a:off x="7395840" y="4714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1"/>
            <p:cNvSpPr/>
            <p:nvPr/>
          </p:nvSpPr>
          <p:spPr>
            <a:xfrm>
              <a:off x="4801320" y="563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8436600" y="464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3"/>
            <p:cNvSpPr/>
            <p:nvPr/>
          </p:nvSpPr>
          <p:spPr>
            <a:xfrm>
              <a:off x="6442200" y="258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024"/>
                <p:cNvSpPr txBox="1"/>
                <p:nvPr/>
              </p:nvSpPr>
              <p:spPr>
                <a:xfrm>
                  <a:off x="5402160" y="4857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1025"/>
                <p:cNvSpPr txBox="1"/>
                <p:nvPr/>
              </p:nvSpPr>
              <p:spPr>
                <a:xfrm>
                  <a:off x="7916760" y="5075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1026"/>
                <p:cNvSpPr txBox="1"/>
                <p:nvPr/>
              </p:nvSpPr>
              <p:spPr>
                <a:xfrm>
                  <a:off x="6870600" y="309060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228600" y="3200400"/>
                <a:ext cx="52578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TC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A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8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B08D-16A4-467E-9ECC-186E41991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5031360" y="457200"/>
            <a:ext cx="4035960" cy="3517200"/>
            <a:chOff x="5031360" y="457200"/>
            <a:chExt cx="4035960" cy="3517200"/>
          </a:xfrm>
        </p:grpSpPr>
        <p:grpSp>
          <p:nvGrpSpPr>
            <p:cNvPr id="483" name="Group 4"/>
            <p:cNvGrpSpPr/>
            <p:nvPr/>
          </p:nvGrpSpPr>
          <p:grpSpPr>
            <a:xfrm>
              <a:off x="5562360" y="936360"/>
              <a:ext cx="3200400" cy="2743200"/>
              <a:chOff x="5562360" y="936360"/>
              <a:chExt cx="3200400" cy="2743200"/>
            </a:xfrm>
          </p:grpSpPr>
          <p:sp>
            <p:nvSpPr>
              <p:cNvPr id="484" name="Line 5"/>
              <p:cNvSpPr/>
              <p:nvPr/>
            </p:nvSpPr>
            <p:spPr>
              <a:xfrm flipV="1">
                <a:off x="6933960" y="936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6"/>
              <p:cNvSpPr/>
              <p:nvPr/>
            </p:nvSpPr>
            <p:spPr>
              <a:xfrm flipH="1">
                <a:off x="5562360" y="2765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7"/>
              <p:cNvSpPr/>
              <p:nvPr/>
            </p:nvSpPr>
            <p:spPr>
              <a:xfrm>
                <a:off x="6933960" y="2765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>
                <a:off x="6629040" y="1469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 rot="16336800">
                <a:off x="5954400" y="3070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"/>
              <p:cNvSpPr/>
              <p:nvPr/>
            </p:nvSpPr>
            <p:spPr>
              <a:xfrm rot="5753400">
                <a:off x="7625880" y="2590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1"/>
            <p:cNvSpPr/>
            <p:nvPr/>
          </p:nvSpPr>
          <p:spPr>
            <a:xfrm>
              <a:off x="5031360" y="351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8667000" y="2523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6672600" y="45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024"/>
                <p:cNvSpPr txBox="1"/>
                <p:nvPr/>
              </p:nvSpPr>
              <p:spPr>
                <a:xfrm>
                  <a:off x="5632200" y="2733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1025"/>
                <p:cNvSpPr txBox="1"/>
                <p:nvPr/>
              </p:nvSpPr>
              <p:spPr>
                <a:xfrm>
                  <a:off x="8147160" y="2951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1026"/>
                <p:cNvSpPr txBox="1"/>
                <p:nvPr/>
              </p:nvSpPr>
              <p:spPr>
                <a:xfrm>
                  <a:off x="7101000" y="966600"/>
                  <a:ext cx="4143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Object 15"/>
              <p:cNvSpPr txBox="1"/>
              <p:nvPr/>
            </p:nvSpPr>
            <p:spPr>
              <a:xfrm>
                <a:off x="488880" y="1447920"/>
                <a:ext cx="40053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6"/>
              <p:cNvSpPr txBox="1"/>
              <p:nvPr/>
            </p:nvSpPr>
            <p:spPr>
              <a:xfrm>
                <a:off x="228600" y="3429000"/>
                <a:ext cx="58672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ψ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θSψ</m:t>
                                  </m:r>
                                </m:e>
                                <m:e>
                                  <m:r>
                                    <m:t xml:space="preserve">CφSθC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CφSθ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θC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Sψ</m:t>
                                  </m:r>
                                </m:e>
                                <m:e>
                                  <m:r>
                                    <m:t xml:space="preserve">CθCψ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431-CADC-4070-A67A-34D7F42DC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57200" y="12952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f12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12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transformed to p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frame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s seen from an observer 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5943600" y="5257800"/>
            <a:ext cx="685800" cy="6094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7467480" y="5257800"/>
            <a:ext cx="685800" cy="609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228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Rotation of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 with respect to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720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ranslation of the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 with respect to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267080" y="4826160"/>
            <a:ext cx="1981440" cy="3553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248" h="224">
                <a:moveTo>
                  <a:pt x="0" y="224"/>
                </a:moveTo>
                <a:cubicBezTo>
                  <a:pt x="48" y="144"/>
                  <a:pt x="96" y="64"/>
                  <a:pt x="240" y="32"/>
                </a:cubicBezTo>
                <a:cubicBezTo>
                  <a:pt x="384" y="0"/>
                  <a:pt x="696" y="0"/>
                  <a:pt x="864" y="32"/>
                </a:cubicBezTo>
                <a:cubicBezTo>
                  <a:pt x="1032" y="64"/>
                  <a:pt x="1184" y="192"/>
                  <a:pt x="1248" y="224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7620120" y="5943600"/>
            <a:ext cx="495360" cy="304920"/>
          </a:xfrm>
          <a:custGeom>
            <a:avLst/>
            <a:gdLst>
              <a:gd name="textAreaLeft" fmla="*/ 0 w 495360"/>
              <a:gd name="textAreaRight" fmla="*/ 495720 w 495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2" descr=""/>
          <p:cNvPicPr/>
          <p:nvPr/>
        </p:nvPicPr>
        <p:blipFill>
          <a:blip r:embed="rId1"/>
          <a:stretch/>
        </p:blipFill>
        <p:spPr>
          <a:xfrm>
            <a:off x="3714840" y="1219320"/>
            <a:ext cx="5429160" cy="4667040"/>
          </a:xfrm>
          <a:prstGeom prst="rect">
            <a:avLst/>
          </a:prstGeom>
          <a:ln w="0">
            <a:noFill/>
          </a:ln>
        </p:spPr>
      </p:pic>
      <p:sp>
        <p:nvSpPr>
          <p:cNvPr id="508" name="Freeform 17"/>
          <p:cNvSpPr/>
          <p:nvPr/>
        </p:nvSpPr>
        <p:spPr>
          <a:xfrm>
            <a:off x="4648320" y="5715000"/>
            <a:ext cx="2133360" cy="3808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98FD-CC4A-43F5-ADE0-C33BAA114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85800" y="114300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transformation from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to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2762280" y="1720800"/>
                <a:ext cx="2639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Text Box 13"/>
          <p:cNvSpPr/>
          <p:nvPr/>
        </p:nvSpPr>
        <p:spPr>
          <a:xfrm>
            <a:off x="6781680" y="5324400"/>
            <a:ext cx="10670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vector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5715000" y="5105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6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C222-5E3B-431A-9AEC-B67459ABC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4524480" y="2743200"/>
                <a:ext cx="1873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85800" y="114300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6705720" y="5257800"/>
            <a:ext cx="19810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 vector of the origin of frame B wrt frame A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5715000" y="5105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AD82-D30E-4E45-9022-04D40BEE4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1447920" y="1295280"/>
                <a:ext cx="1873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3581280" y="1447920"/>
                <a:ext cx="187344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72200" y="1523880"/>
                <a:ext cx="187308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2527200" y="4648320"/>
                <a:ext cx="3059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6"/>
              <p:cNvSpPr txBox="1"/>
              <p:nvPr/>
            </p:nvSpPr>
            <p:spPr>
              <a:xfrm>
                <a:off x="2666880" y="2362320"/>
                <a:ext cx="28958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95DB-7AE1-41DC-AAB2-70B4F23B9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838080" y="1752480"/>
                <a:ext cx="29718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4334040" y="1752480"/>
                <a:ext cx="39384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0" name="Group 63"/>
          <p:cNvGrpSpPr/>
          <p:nvPr/>
        </p:nvGrpSpPr>
        <p:grpSpPr>
          <a:xfrm>
            <a:off x="4419720" y="3352680"/>
            <a:ext cx="4114800" cy="3340080"/>
            <a:chOff x="4419720" y="3352680"/>
            <a:chExt cx="4114800" cy="3340080"/>
          </a:xfrm>
        </p:grpSpPr>
        <p:sp>
          <p:nvSpPr>
            <p:cNvPr id="541" name="Line 6"/>
            <p:cNvSpPr/>
            <p:nvPr/>
          </p:nvSpPr>
          <p:spPr>
            <a:xfrm flipV="1">
              <a:off x="5486400" y="4660920"/>
              <a:ext cx="190512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5486400" y="63370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5486400" y="3593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9"/>
                <p:cNvSpPr txBox="1"/>
                <p:nvPr/>
              </p:nvSpPr>
              <p:spPr>
                <a:xfrm>
                  <a:off x="8153280" y="5956200"/>
                  <a:ext cx="3049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7391520" y="4432320"/>
                  <a:ext cx="33480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Object 11"/>
                <p:cNvSpPr txBox="1"/>
                <p:nvPr/>
              </p:nvSpPr>
              <p:spPr>
                <a:xfrm>
                  <a:off x="5257800" y="3365280"/>
                  <a:ext cx="304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Oval 12"/>
            <p:cNvSpPr/>
            <p:nvPr/>
          </p:nvSpPr>
          <p:spPr>
            <a:xfrm>
              <a:off x="6781680" y="38098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13"/>
                <p:cNvSpPr txBox="1"/>
                <p:nvPr/>
              </p:nvSpPr>
              <p:spPr>
                <a:xfrm>
                  <a:off x="6781680" y="3352680"/>
                  <a:ext cx="3859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Line 18"/>
            <p:cNvSpPr/>
            <p:nvPr/>
          </p:nvSpPr>
          <p:spPr>
            <a:xfrm flipV="1">
              <a:off x="5486400" y="518112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5486400" y="59436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 flipV="1">
              <a:off x="5486400" y="48765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Object 21"/>
                <p:cNvSpPr txBox="1"/>
                <p:nvPr/>
              </p:nvSpPr>
              <p:spPr>
                <a:xfrm>
                  <a:off x="6996240" y="5721120"/>
                  <a:ext cx="485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Object 22"/>
                <p:cNvSpPr txBox="1"/>
                <p:nvPr/>
              </p:nvSpPr>
              <p:spPr>
                <a:xfrm>
                  <a:off x="6400800" y="4808520"/>
                  <a:ext cx="488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Object 23"/>
                <p:cNvSpPr txBox="1"/>
                <p:nvPr/>
              </p:nvSpPr>
              <p:spPr>
                <a:xfrm>
                  <a:off x="5211720" y="4440240"/>
                  <a:ext cx="4590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24"/>
            <p:cNvSpPr/>
            <p:nvPr/>
          </p:nvSpPr>
          <p:spPr>
            <a:xfrm>
              <a:off x="5181480" y="6324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3"/>
            <p:cNvSpPr/>
            <p:nvPr/>
          </p:nvSpPr>
          <p:spPr>
            <a:xfrm flipH="1">
              <a:off x="4572000" y="595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4"/>
            <p:cNvSpPr/>
            <p:nvPr/>
          </p:nvSpPr>
          <p:spPr>
            <a:xfrm flipH="1">
              <a:off x="4572000" y="633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>
              <a:off x="4876920" y="595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6"/>
            <p:cNvSpPr/>
            <p:nvPr/>
          </p:nvSpPr>
          <p:spPr>
            <a:xfrm>
              <a:off x="4419720" y="595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7"/>
          <p:cNvGrpSpPr/>
          <p:nvPr/>
        </p:nvGrpSpPr>
        <p:grpSpPr>
          <a:xfrm>
            <a:off x="762120" y="3352680"/>
            <a:ext cx="3276000" cy="3110040"/>
            <a:chOff x="762120" y="3352680"/>
            <a:chExt cx="3276000" cy="3110040"/>
          </a:xfrm>
        </p:grpSpPr>
        <p:sp>
          <p:nvSpPr>
            <p:cNvPr id="561" name="Line 38"/>
            <p:cNvSpPr/>
            <p:nvPr/>
          </p:nvSpPr>
          <p:spPr>
            <a:xfrm flipV="1">
              <a:off x="990360" y="4635000"/>
              <a:ext cx="19047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"/>
            <p:cNvSpPr/>
            <p:nvPr/>
          </p:nvSpPr>
          <p:spPr>
            <a:xfrm>
              <a:off x="990360" y="631188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0"/>
            <p:cNvSpPr/>
            <p:nvPr/>
          </p:nvSpPr>
          <p:spPr>
            <a:xfrm flipV="1">
              <a:off x="990360" y="35686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41"/>
                <p:cNvSpPr txBox="1"/>
                <p:nvPr/>
              </p:nvSpPr>
              <p:spPr>
                <a:xfrm>
                  <a:off x="3733560" y="59306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42"/>
                <p:cNvSpPr txBox="1"/>
                <p:nvPr/>
              </p:nvSpPr>
              <p:spPr>
                <a:xfrm>
                  <a:off x="2895480" y="4635360"/>
                  <a:ext cx="3344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43"/>
                <p:cNvSpPr txBox="1"/>
                <p:nvPr/>
              </p:nvSpPr>
              <p:spPr>
                <a:xfrm>
                  <a:off x="990360" y="3352680"/>
                  <a:ext cx="304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Oval 44"/>
            <p:cNvSpPr/>
            <p:nvPr/>
          </p:nvSpPr>
          <p:spPr>
            <a:xfrm>
              <a:off x="2286000" y="4178160"/>
              <a:ext cx="7560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45"/>
                <p:cNvSpPr txBox="1"/>
                <p:nvPr/>
              </p:nvSpPr>
              <p:spPr>
                <a:xfrm>
                  <a:off x="2286000" y="3720960"/>
                  <a:ext cx="3852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9" name="Line 50"/>
            <p:cNvSpPr/>
            <p:nvPr/>
          </p:nvSpPr>
          <p:spPr>
            <a:xfrm flipV="1">
              <a:off x="990360" y="554940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1"/>
            <p:cNvSpPr/>
            <p:nvPr/>
          </p:nvSpPr>
          <p:spPr>
            <a:xfrm>
              <a:off x="990360" y="631188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2"/>
            <p:cNvSpPr/>
            <p:nvPr/>
          </p:nvSpPr>
          <p:spPr>
            <a:xfrm flipV="1">
              <a:off x="990360" y="524484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Object 53"/>
                <p:cNvSpPr txBox="1"/>
                <p:nvPr/>
              </p:nvSpPr>
              <p:spPr>
                <a:xfrm>
                  <a:off x="2590560" y="61592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4"/>
                <p:cNvSpPr txBox="1"/>
                <p:nvPr/>
              </p:nvSpPr>
              <p:spPr>
                <a:xfrm>
                  <a:off x="2011320" y="5271840"/>
                  <a:ext cx="2743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Object 55"/>
                <p:cNvSpPr txBox="1"/>
                <p:nvPr/>
              </p:nvSpPr>
              <p:spPr>
                <a:xfrm>
                  <a:off x="762120" y="4863960"/>
                  <a:ext cx="366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5" name="AutoShape 64"/>
          <p:cNvSpPr/>
          <p:nvPr/>
        </p:nvSpPr>
        <p:spPr>
          <a:xfrm>
            <a:off x="3581280" y="472428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76212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EF9-A8FA-4221-B70D-90DD955F2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1"/>
              <p:cNvSpPr txBox="1"/>
              <p:nvPr/>
            </p:nvSpPr>
            <p:spPr>
              <a:xfrm>
                <a:off x="730080" y="3048120"/>
                <a:ext cx="40039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1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8876-D90E-4EC5-9FA9-676D31E14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1266840" y="21337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the X-axi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685800" y="1828800"/>
                <a:ext cx="33526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5"/>
              <p:cNvSpPr txBox="1"/>
              <p:nvPr/>
            </p:nvSpPr>
            <p:spPr>
              <a:xfrm>
                <a:off x="5218200" y="1963800"/>
                <a:ext cx="2808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7"/>
              <p:cNvSpPr txBox="1"/>
              <p:nvPr/>
            </p:nvSpPr>
            <p:spPr>
              <a:xfrm>
                <a:off x="5334120" y="12952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0CD-F34D-46B8-847B-BA864F8D6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3"/>
          <p:cNvGrpSpPr/>
          <p:nvPr/>
        </p:nvGrpSpPr>
        <p:grpSpPr>
          <a:xfrm>
            <a:off x="3125160" y="3429000"/>
            <a:ext cx="3961440" cy="3176640"/>
            <a:chOff x="3125160" y="3429000"/>
            <a:chExt cx="3961440" cy="3176640"/>
          </a:xfrm>
        </p:grpSpPr>
        <p:sp>
          <p:nvSpPr>
            <p:cNvPr id="590" name="Line 8"/>
            <p:cNvSpPr/>
            <p:nvPr/>
          </p:nvSpPr>
          <p:spPr>
            <a:xfrm flipV="1">
              <a:off x="4847040" y="3657600"/>
              <a:ext cx="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2"/>
            <p:cNvGrpSpPr/>
            <p:nvPr/>
          </p:nvGrpSpPr>
          <p:grpSpPr>
            <a:xfrm>
              <a:off x="3125160" y="3429000"/>
              <a:ext cx="3961440" cy="3176640"/>
              <a:chOff x="3125160" y="3429000"/>
              <a:chExt cx="3961440" cy="3176640"/>
            </a:xfrm>
          </p:grpSpPr>
          <mc:AlternateContent>
            <mc:Choice xmlns:a14="http://schemas.microsoft.com/office/drawing/2010/main" Requires="a14">
              <p:sp>
                <p:nvSpPr>
                  <p:cNvPr id="592" name="Object 6"/>
                  <p:cNvSpPr txBox="1"/>
                  <p:nvPr/>
                </p:nvSpPr>
                <p:spPr>
                  <a:xfrm>
                    <a:off x="3810240" y="6302520"/>
                    <a:ext cx="30456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3" name="Line 7"/>
              <p:cNvSpPr/>
              <p:nvPr/>
            </p:nvSpPr>
            <p:spPr>
              <a:xfrm>
                <a:off x="4847040" y="5562720"/>
                <a:ext cx="20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4" name="Object 9"/>
                  <p:cNvSpPr txBox="1"/>
                  <p:nvPr/>
                </p:nvSpPr>
                <p:spPr>
                  <a:xfrm>
                    <a:off x="4923000" y="3429000"/>
                    <a:ext cx="30456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5" name="Object 10"/>
                  <p:cNvSpPr txBox="1"/>
                  <p:nvPr/>
                </p:nvSpPr>
                <p:spPr>
                  <a:xfrm>
                    <a:off x="6751800" y="5693040"/>
                    <a:ext cx="33480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6" name="Object 11"/>
                  <p:cNvSpPr txBox="1"/>
                  <p:nvPr/>
                </p:nvSpPr>
                <p:spPr>
                  <a:xfrm>
                    <a:off x="6316920" y="4257720"/>
                    <a:ext cx="35532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7" name="Object 12"/>
                  <p:cNvSpPr txBox="1"/>
                  <p:nvPr/>
                </p:nvSpPr>
                <p:spPr>
                  <a:xfrm>
                    <a:off x="3981960" y="3647880"/>
                    <a:ext cx="3301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8" name="Group 13"/>
              <p:cNvGrpSpPr/>
              <p:nvPr/>
            </p:nvGrpSpPr>
            <p:grpSpPr>
              <a:xfrm>
                <a:off x="4083480" y="4037040"/>
                <a:ext cx="2499120" cy="1520280"/>
                <a:chOff x="4083480" y="4037040"/>
                <a:chExt cx="2499120" cy="1520280"/>
              </a:xfrm>
            </p:grpSpPr>
            <p:sp>
              <p:nvSpPr>
                <p:cNvPr id="599" name="Line 14"/>
                <p:cNvSpPr/>
                <p:nvPr/>
              </p:nvSpPr>
              <p:spPr>
                <a:xfrm flipV="1">
                  <a:off x="4823280" y="4700880"/>
                  <a:ext cx="1759320" cy="85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5"/>
                <p:cNvSpPr/>
                <p:nvPr/>
              </p:nvSpPr>
              <p:spPr>
                <a:xfrm flipH="1" flipV="1">
                  <a:off x="4083480" y="4037040"/>
                  <a:ext cx="739800" cy="151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Line 16"/>
              <p:cNvSpPr/>
              <p:nvPr/>
            </p:nvSpPr>
            <p:spPr>
              <a:xfrm flipV="1">
                <a:off x="4847040" y="4572000"/>
                <a:ext cx="10666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7"/>
              <p:cNvSpPr/>
              <p:nvPr/>
            </p:nvSpPr>
            <p:spPr>
              <a:xfrm>
                <a:off x="5913720" y="45720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"/>
              <p:cNvSpPr/>
              <p:nvPr/>
            </p:nvSpPr>
            <p:spPr>
              <a:xfrm flipH="1">
                <a:off x="4846680" y="4572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9"/>
              <p:cNvSpPr/>
              <p:nvPr/>
            </p:nvSpPr>
            <p:spPr>
              <a:xfrm>
                <a:off x="5913720" y="4572000"/>
                <a:ext cx="1522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0"/>
              <p:cNvSpPr/>
              <p:nvPr/>
            </p:nvSpPr>
            <p:spPr>
              <a:xfrm flipH="1">
                <a:off x="4618440" y="4572000"/>
                <a:ext cx="1295280" cy="6094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6" name="Object 21"/>
                  <p:cNvSpPr txBox="1"/>
                  <p:nvPr/>
                </p:nvSpPr>
                <p:spPr>
                  <a:xfrm>
                    <a:off x="5761440" y="4038480"/>
                    <a:ext cx="3888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7" name="Line 22"/>
              <p:cNvSpPr/>
              <p:nvPr/>
            </p:nvSpPr>
            <p:spPr>
              <a:xfrm flipH="1">
                <a:off x="3582000" y="5540400"/>
                <a:ext cx="129528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3"/>
              <p:cNvSpPr/>
              <p:nvPr/>
            </p:nvSpPr>
            <p:spPr>
              <a:xfrm flipH="1">
                <a:off x="4115160" y="5540400"/>
                <a:ext cx="7617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Object 24"/>
                  <p:cNvSpPr txBox="1"/>
                  <p:nvPr/>
                </p:nvSpPr>
                <p:spPr>
                  <a:xfrm>
                    <a:off x="4240440" y="5835960"/>
                    <a:ext cx="3283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0" name="Object 1025"/>
                  <p:cNvSpPr txBox="1"/>
                  <p:nvPr/>
                </p:nvSpPr>
                <p:spPr>
                  <a:xfrm>
                    <a:off x="5467680" y="5214240"/>
                    <a:ext cx="247320" cy="34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1" name="Object 28"/>
                  <p:cNvSpPr txBox="1"/>
                  <p:nvPr/>
                </p:nvSpPr>
                <p:spPr>
                  <a:xfrm>
                    <a:off x="4496040" y="4389480"/>
                    <a:ext cx="23796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2" name="Arc 59"/>
              <p:cNvSpPr/>
              <p:nvPr/>
            </p:nvSpPr>
            <p:spPr>
              <a:xfrm rot="13537200">
                <a:off x="4695480" y="5011560"/>
                <a:ext cx="868320" cy="28296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rc 59"/>
              <p:cNvSpPr/>
              <p:nvPr/>
            </p:nvSpPr>
            <p:spPr>
              <a:xfrm rot="8875200">
                <a:off x="3116160" y="4982400"/>
                <a:ext cx="1760400" cy="473040"/>
              </a:xfrm>
              <a:custGeom>
                <a:avLst/>
                <a:gdLst>
                  <a:gd name="textAreaLeft" fmla="*/ 0 w 1760400"/>
                  <a:gd name="textAreaRight" fmla="*/ 1760760 w 17604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95280" y="2588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18960" y="1069920"/>
            <a:ext cx="456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fix superscript denotes the reference frame in which the vector should be underst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1"/>
              <p:cNvSpPr txBox="1"/>
              <p:nvPr/>
            </p:nvSpPr>
            <p:spPr>
              <a:xfrm>
                <a:off x="270000" y="3429000"/>
                <a:ext cx="33876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Object 33"/>
          <p:cNvGraphicFramePr/>
          <p:nvPr/>
        </p:nvGraphicFramePr>
        <p:xfrm>
          <a:off x="4267080" y="3581280"/>
          <a:ext cx="15242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1524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514600" y="556272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int, two different refer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3505320" y="4648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H="1" flipV="1">
            <a:off x="1714320" y="4622400"/>
            <a:ext cx="186660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7245360" y="1660680"/>
            <a:ext cx="1073160" cy="728640"/>
            <a:chOff x="7245360" y="1660680"/>
            <a:chExt cx="1073160" cy="728640"/>
          </a:xfrm>
        </p:grpSpPr>
        <p:sp>
          <p:nvSpPr>
            <p:cNvPr id="168" name="Line 26"/>
            <p:cNvSpPr/>
            <p:nvPr/>
          </p:nvSpPr>
          <p:spPr>
            <a:xfrm flipV="1">
              <a:off x="7245360" y="166068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7245360" y="238932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5202360" y="779400"/>
            <a:ext cx="3517920" cy="2657520"/>
            <a:chOff x="5202360" y="779400"/>
            <a:chExt cx="3517920" cy="2657520"/>
          </a:xfrm>
        </p:grpSpPr>
        <p:sp>
          <p:nvSpPr>
            <p:cNvPr id="171" name="Line 4"/>
            <p:cNvSpPr/>
            <p:nvPr/>
          </p:nvSpPr>
          <p:spPr>
            <a:xfrm flipV="1">
              <a:off x="5530680" y="1266480"/>
              <a:ext cx="0" cy="183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5530680" y="3100320"/>
              <a:ext cx="286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5530680" y="2383920"/>
              <a:ext cx="172728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8"/>
                <p:cNvSpPr txBox="1"/>
                <p:nvPr/>
              </p:nvSpPr>
              <p:spPr>
                <a:xfrm>
                  <a:off x="7848720" y="1752480"/>
                  <a:ext cx="242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11"/>
                <p:cNvSpPr txBox="1"/>
                <p:nvPr/>
              </p:nvSpPr>
              <p:spPr>
                <a:xfrm>
                  <a:off x="7177320" y="3160800"/>
                  <a:ext cx="1807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12"/>
                <p:cNvSpPr txBox="1"/>
                <p:nvPr/>
              </p:nvSpPr>
              <p:spPr>
                <a:xfrm>
                  <a:off x="5202360" y="226044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32"/>
                <p:cNvSpPr txBox="1"/>
                <p:nvPr/>
              </p:nvSpPr>
              <p:spPr>
                <a:xfrm>
                  <a:off x="5280120" y="2906640"/>
                  <a:ext cx="201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8" name="Object 37"/>
            <p:cNvGraphicFramePr/>
            <p:nvPr/>
          </p:nvGraphicFramePr>
          <p:xfrm>
            <a:off x="8331480" y="2163600"/>
            <a:ext cx="32544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31480" y="2163600"/>
                      <a:ext cx="32544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80" name="Object 38"/>
                <p:cNvSpPr txBox="1"/>
                <p:nvPr/>
              </p:nvSpPr>
              <p:spPr>
                <a:xfrm>
                  <a:off x="8394840" y="2938680"/>
                  <a:ext cx="3254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39"/>
                <p:cNvSpPr txBox="1"/>
                <p:nvPr/>
              </p:nvSpPr>
              <p:spPr>
                <a:xfrm>
                  <a:off x="5346720" y="779400"/>
                  <a:ext cx="350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2" name="Object 40"/>
            <p:cNvGraphicFramePr/>
            <p:nvPr/>
          </p:nvGraphicFramePr>
          <p:xfrm>
            <a:off x="7035840" y="1234800"/>
            <a:ext cx="35064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5840" y="1234800"/>
                      <a:ext cx="3506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" name="Group 26"/>
            <p:cNvGrpSpPr/>
            <p:nvPr/>
          </p:nvGrpSpPr>
          <p:grpSpPr>
            <a:xfrm>
              <a:off x="7696440" y="2286000"/>
              <a:ext cx="180720" cy="425160"/>
              <a:chOff x="7696440" y="2286000"/>
              <a:chExt cx="180720" cy="425160"/>
            </a:xfrm>
          </p:grpSpPr>
          <p:sp>
            <p:nvSpPr>
              <p:cNvPr id="185" name="Line 9"/>
              <p:cNvSpPr/>
              <p:nvPr/>
            </p:nvSpPr>
            <p:spPr>
              <a:xfrm>
                <a:off x="7777440" y="22860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Object 25"/>
                  <p:cNvSpPr txBox="1"/>
                  <p:nvPr/>
                </p:nvSpPr>
                <p:spPr>
                  <a:xfrm>
                    <a:off x="7696440" y="2435040"/>
                    <a:ext cx="18072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7" name="Line 9"/>
            <p:cNvSpPr/>
            <p:nvPr/>
          </p:nvSpPr>
          <p:spPr>
            <a:xfrm>
              <a:off x="7772760" y="198108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716292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746784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6"/>
                <p:cNvSpPr txBox="1"/>
                <p:nvPr/>
              </p:nvSpPr>
              <p:spPr>
                <a:xfrm>
                  <a:off x="6858000" y="190476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38"/>
            <p:cNvGrpSpPr/>
            <p:nvPr/>
          </p:nvGrpSpPr>
          <p:grpSpPr>
            <a:xfrm>
              <a:off x="7239240" y="2438280"/>
              <a:ext cx="20520" cy="752400"/>
              <a:chOff x="7239240" y="2438280"/>
              <a:chExt cx="20520" cy="752400"/>
            </a:xfrm>
          </p:grpSpPr>
          <p:sp>
            <p:nvSpPr>
              <p:cNvPr id="192" name="Line 9"/>
              <p:cNvSpPr/>
              <p:nvPr/>
            </p:nvSpPr>
            <p:spPr>
              <a:xfrm>
                <a:off x="7258320" y="30114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9"/>
              <p:cNvSpPr/>
              <p:nvPr/>
            </p:nvSpPr>
            <p:spPr>
              <a:xfrm>
                <a:off x="7239240" y="243828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239240" y="271584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7"/>
            <p:cNvGrpSpPr/>
            <p:nvPr/>
          </p:nvGrpSpPr>
          <p:grpSpPr>
            <a:xfrm>
              <a:off x="5438880" y="2362320"/>
              <a:ext cx="1676520" cy="23760"/>
              <a:chOff x="5438880" y="2362320"/>
              <a:chExt cx="1676520" cy="23760"/>
            </a:xfrm>
          </p:grpSpPr>
          <p:sp>
            <p:nvSpPr>
              <p:cNvPr id="196" name="Line 10"/>
              <p:cNvSpPr/>
              <p:nvPr/>
            </p:nvSpPr>
            <p:spPr>
              <a:xfrm>
                <a:off x="5438880" y="238464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655344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"/>
              <p:cNvSpPr/>
              <p:nvPr/>
            </p:nvSpPr>
            <p:spPr>
              <a:xfrm>
                <a:off x="579132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>
                <a:off x="617220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93468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D7FA-8722-4810-81FC-109DCCFAD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Homogeneous 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fixed frame, using pre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current frame, using post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2B71-9F88-4DA5-9E2C-81AD7C0C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omogeneous transformation matrix (H) for the following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685800" y="2362320"/>
                <a:ext cx="420048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a along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d along O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OZ axi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swer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2550960" y="4478400"/>
                <a:ext cx="27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2209680" y="4952880"/>
                <a:ext cx="624852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F649-F9D3-4C57-96BF-AD53C5B5A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596880" y="334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ose double-angle formul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914400" y="1733400"/>
                <a:ext cx="6226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"/>
              <p:cNvSpPr txBox="1"/>
              <p:nvPr/>
            </p:nvSpPr>
            <p:spPr>
              <a:xfrm>
                <a:off x="914400" y="2419200"/>
                <a:ext cx="6291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1F0E-48D6-470C-8241-BB970C30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-12600" y="1219320"/>
                <a:ext cx="269856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5638680" y="1219320"/>
                <a:ext cx="30783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0" name="Group 5"/>
          <p:cNvGrpSpPr/>
          <p:nvPr/>
        </p:nvGrpSpPr>
        <p:grpSpPr>
          <a:xfrm>
            <a:off x="3413160" y="3238560"/>
            <a:ext cx="2295360" cy="1616040"/>
            <a:chOff x="3413160" y="3238560"/>
            <a:chExt cx="2295360" cy="1616040"/>
          </a:xfrm>
        </p:grpSpPr>
        <mc:AlternateContent>
          <mc:Choice xmlns:a14="http://schemas.microsoft.com/office/drawing/2010/main" Requires="a14">
            <p:sp>
              <p:nvSpPr>
                <p:cNvPr id="631" name="Object 7"/>
                <p:cNvSpPr txBox="1"/>
                <p:nvPr/>
              </p:nvSpPr>
              <p:spPr>
                <a:xfrm>
                  <a:off x="3413160" y="3238560"/>
                  <a:ext cx="2295360" cy="16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Line 7"/>
            <p:cNvSpPr/>
            <p:nvPr/>
          </p:nvSpPr>
          <p:spPr>
            <a:xfrm flipV="1">
              <a:off x="3997080" y="3687480"/>
              <a:ext cx="307800" cy="3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4022640" y="3713040"/>
              <a:ext cx="101880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581360" y="4157280"/>
              <a:ext cx="52344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10"/>
          <p:cNvSpPr/>
          <p:nvPr/>
        </p:nvSpPr>
        <p:spPr>
          <a:xfrm>
            <a:off x="2689200" y="2792520"/>
            <a:ext cx="600120" cy="50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5737320" y="2773080"/>
            <a:ext cx="841320" cy="64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650880" y="5411880"/>
                <a:ext cx="944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2419200" y="5610240"/>
                <a:ext cx="1370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Line 14"/>
          <p:cNvSpPr/>
          <p:nvPr/>
        </p:nvSpPr>
        <p:spPr>
          <a:xfrm flipV="1">
            <a:off x="1673280" y="5833800"/>
            <a:ext cx="6508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838080" y="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trix tran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6"/>
              <p:cNvSpPr txBox="1"/>
              <p:nvPr/>
            </p:nvSpPr>
            <p:spPr>
              <a:xfrm>
                <a:off x="6840360" y="5486400"/>
                <a:ext cx="199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Text Box 19"/>
          <p:cNvSpPr/>
          <p:nvPr/>
        </p:nvSpPr>
        <p:spPr>
          <a:xfrm>
            <a:off x="4424400" y="556560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2725-9342-4BFC-A029-8E4779D0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324000" y="1460520"/>
                <a:ext cx="2023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4021200" y="1498680"/>
                <a:ext cx="1942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42"/>
          <p:cNvSpPr/>
          <p:nvPr/>
        </p:nvSpPr>
        <p:spPr>
          <a:xfrm>
            <a:off x="838080" y="33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trix multiplic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0" y="3048120"/>
                <a:ext cx="7880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5"/>
              <p:cNvSpPr txBox="1"/>
              <p:nvPr/>
            </p:nvSpPr>
            <p:spPr>
              <a:xfrm>
                <a:off x="873000" y="4797360"/>
                <a:ext cx="63709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45"/>
          <p:cNvSpPr/>
          <p:nvPr/>
        </p:nvSpPr>
        <p:spPr>
          <a:xfrm>
            <a:off x="471600" y="434664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resent dot product as a matrix multi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0AC4-6BC6-45B8-BBCF-9F5CB565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2.10, 2.11, 2.12, 2.13, 2.14 ,2.15, 2.22, 2.24, 2.37, and 2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F81C-79E2-4A83-923C-4A6E8AC28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74800" y="25884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 (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2"/>
          <p:cNvGrpSpPr/>
          <p:nvPr/>
        </p:nvGrpSpPr>
        <p:grpSpPr>
          <a:xfrm>
            <a:off x="5646600" y="1066680"/>
            <a:ext cx="2684520" cy="2065320"/>
            <a:chOff x="5646600" y="10666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04" name="Object 43"/>
                <p:cNvSpPr txBox="1"/>
                <p:nvPr/>
              </p:nvSpPr>
              <p:spPr>
                <a:xfrm>
                  <a:off x="8129520" y="24825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Line 44"/>
            <p:cNvSpPr/>
            <p:nvPr/>
          </p:nvSpPr>
          <p:spPr>
            <a:xfrm flipV="1">
              <a:off x="6451560" y="13773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V="1">
              <a:off x="6451560" y="25970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6"/>
                <p:cNvSpPr txBox="1"/>
                <p:nvPr/>
              </p:nvSpPr>
              <p:spPr>
                <a:xfrm>
                  <a:off x="6349680" y="10666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47"/>
            <p:cNvSpPr/>
            <p:nvPr/>
          </p:nvSpPr>
          <p:spPr>
            <a:xfrm flipH="1">
              <a:off x="5943600" y="26064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8"/>
                <p:cNvSpPr txBox="1"/>
                <p:nvPr/>
              </p:nvSpPr>
              <p:spPr>
                <a:xfrm>
                  <a:off x="5646600" y="29336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Text Box 56"/>
          <p:cNvSpPr/>
          <p:nvPr/>
        </p:nvSpPr>
        <p:spPr>
          <a:xfrm>
            <a:off x="5494320" y="3276720"/>
            <a:ext cx="26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ed coordinat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8"/>
          <p:cNvSpPr/>
          <p:nvPr/>
        </p:nvSpPr>
        <p:spPr>
          <a:xfrm>
            <a:off x="4960800" y="3124080"/>
            <a:ext cx="3802320" cy="1071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62120" y="1014480"/>
            <a:ext cx="2684520" cy="2065320"/>
            <a:chOff x="762120" y="10144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13" name="Object 61"/>
                <p:cNvSpPr txBox="1"/>
                <p:nvPr/>
              </p:nvSpPr>
              <p:spPr>
                <a:xfrm>
                  <a:off x="3245040" y="24303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Line 19"/>
            <p:cNvSpPr/>
            <p:nvPr/>
          </p:nvSpPr>
          <p:spPr>
            <a:xfrm flipV="1">
              <a:off x="1567080" y="13251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V="1">
              <a:off x="1567080" y="25448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62"/>
                <p:cNvSpPr txBox="1"/>
                <p:nvPr/>
              </p:nvSpPr>
              <p:spPr>
                <a:xfrm>
                  <a:off x="1465200" y="10144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Line 22"/>
            <p:cNvSpPr/>
            <p:nvPr/>
          </p:nvSpPr>
          <p:spPr>
            <a:xfrm flipH="1">
              <a:off x="1059120" y="25542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62120" y="28814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Object 64"/>
              <p:cNvSpPr txBox="1"/>
              <p:nvPr/>
            </p:nvSpPr>
            <p:spPr>
              <a:xfrm>
                <a:off x="623880" y="2762280"/>
                <a:ext cx="13572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Line 25"/>
          <p:cNvSpPr/>
          <p:nvPr/>
        </p:nvSpPr>
        <p:spPr>
          <a:xfrm flipV="1">
            <a:off x="1600200" y="1752480"/>
            <a:ext cx="266760" cy="76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1981080" y="152388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F89F-F745-4F1B-B017-3BEC3E08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7"/>
              <p:cNvSpPr txBox="1"/>
              <p:nvPr/>
            </p:nvSpPr>
            <p:spPr>
              <a:xfrm>
                <a:off x="-34920" y="4800600"/>
                <a:ext cx="2778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8"/>
              <p:cNvSpPr txBox="1"/>
              <p:nvPr/>
            </p:nvSpPr>
            <p:spPr>
              <a:xfrm>
                <a:off x="2602080" y="4233960"/>
                <a:ext cx="369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5" name="Text Box 26"/>
          <p:cNvSpPr/>
          <p:nvPr/>
        </p:nvSpPr>
        <p:spPr>
          <a:xfrm>
            <a:off x="4094280" y="419112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 flipH="1">
            <a:off x="2999880" y="449748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132440" y="5219640"/>
            <a:ext cx="455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3114720" y="538632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9"/>
              <p:cNvSpPr txBox="1"/>
              <p:nvPr/>
            </p:nvSpPr>
            <p:spPr>
              <a:xfrm>
                <a:off x="2717640" y="5029200"/>
                <a:ext cx="406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0" name="Text Box 29"/>
          <p:cNvSpPr/>
          <p:nvPr/>
        </p:nvSpPr>
        <p:spPr>
          <a:xfrm>
            <a:off x="4157640" y="5981760"/>
            <a:ext cx="45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139560" y="614844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60840" y="5845320"/>
                <a:ext cx="369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609480" y="28195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0" y="1676520"/>
                <a:ext cx="35593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0" y="4994280"/>
                <a:ext cx="4475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238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0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24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0" name="Object 2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2" name="Object 2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838080" y="606276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25"/>
          <p:cNvGrpSpPr/>
          <p:nvPr/>
        </p:nvGrpSpPr>
        <p:grpSpPr>
          <a:xfrm>
            <a:off x="81000" y="3809880"/>
            <a:ext cx="4795920" cy="1139040"/>
            <a:chOff x="81000" y="3809880"/>
            <a:chExt cx="4795920" cy="1139040"/>
          </a:xfrm>
        </p:grpSpPr>
        <p:sp>
          <p:nvSpPr>
            <p:cNvPr id="257" name="Text Box 30"/>
            <p:cNvSpPr/>
            <p:nvPr/>
          </p:nvSpPr>
          <p:spPr>
            <a:xfrm>
              <a:off x="309600" y="3940200"/>
              <a:ext cx="456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To specify the coordinate vectors for the fame  B with respect to fram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4"/>
                <p:cNvSpPr txBox="1"/>
                <p:nvPr/>
              </p:nvSpPr>
              <p:spPr>
                <a:xfrm>
                  <a:off x="81000" y="3809880"/>
                  <a:ext cx="59688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Line 9"/>
          <p:cNvSpPr/>
          <p:nvPr/>
        </p:nvSpPr>
        <p:spPr>
          <a:xfrm>
            <a:off x="6858000" y="39625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5308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6858000" y="37339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6858000" y="35053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858000" y="32004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6858000" y="29718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858000" y="27432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858000" y="25146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594360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248520" y="25131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563868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502920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33412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77216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6934320" y="2209680"/>
                <a:ext cx="260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Straight Connector 46"/>
          <p:cNvSpPr/>
          <p:nvPr/>
        </p:nvSpPr>
        <p:spPr>
          <a:xfrm>
            <a:off x="6857280" y="2514600"/>
            <a:ext cx="3049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9"/>
          <p:cNvSpPr/>
          <p:nvPr/>
        </p:nvSpPr>
        <p:spPr>
          <a:xfrm flipH="1">
            <a:off x="4495680" y="2513880"/>
            <a:ext cx="23623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2364-D87D-4D36-A170-8C27DA5B2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2"/>
          <p:cNvGraphicFramePr/>
          <p:nvPr/>
        </p:nvGraphicFramePr>
        <p:xfrm>
          <a:off x="7745400" y="4853160"/>
          <a:ext cx="320760" cy="42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5400" y="4853160"/>
                    <a:ext cx="320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3"/>
          <p:cNvGraphicFramePr/>
          <p:nvPr/>
        </p:nvGraphicFramePr>
        <p:xfrm>
          <a:off x="8697960" y="4856040"/>
          <a:ext cx="284040" cy="36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97960" y="4856040"/>
                    <a:ext cx="2840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30"/>
          <p:cNvSpPr/>
          <p:nvPr/>
        </p:nvSpPr>
        <p:spPr>
          <a:xfrm>
            <a:off x="5181480" y="4876920"/>
            <a:ext cx="456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ngle between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ti clockwise dire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58680" y="1585800"/>
                <a:ext cx="3257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Line 9"/>
          <p:cNvSpPr/>
          <p:nvPr/>
        </p:nvSpPr>
        <p:spPr>
          <a:xfrm>
            <a:off x="6781680" y="39625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6600960" y="35067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6781680" y="37339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781680" y="35053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9112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296040" y="3505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5686560" y="350820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076720" y="350820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38164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481968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D7B-D22A-4DCD-99C1-314F3D0F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4"/>
          <p:cNvGraphicFramePr/>
          <p:nvPr/>
        </p:nvGraphicFramePr>
        <p:xfrm>
          <a:off x="352440" y="2666880"/>
          <a:ext cx="3029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666880"/>
                    <a:ext cx="3029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5"/>
          <p:cNvGraphicFramePr/>
          <p:nvPr/>
        </p:nvGraphicFramePr>
        <p:xfrm>
          <a:off x="496800" y="4191120"/>
          <a:ext cx="31989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4191120"/>
                    <a:ext cx="31989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300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02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303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8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9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0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1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Object 2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3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2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64"/>
              <p:cNvSpPr txBox="1"/>
              <p:nvPr/>
            </p:nvSpPr>
            <p:spPr>
              <a:xfrm>
                <a:off x="422280" y="2787480"/>
                <a:ext cx="3257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07B8-8017-4E6A-9D68-632BF4969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3048120"/>
                <a:ext cx="3844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26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8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29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4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11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4F9C-78C6-496F-AEC6-42821E10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3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" y="3048120"/>
                <a:ext cx="433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7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48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0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5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5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6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7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8" name="Object 13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1755-EB91-4E9A-B976-116E64C16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1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2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3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2:38:01Z</dcterms:created>
  <dc:creator>rplatt</dc:creator>
  <dc:description/>
  <dc:language>en-US</dc:language>
  <cp:lastModifiedBy>Ayssam</cp:lastModifiedBy>
  <dcterms:modified xsi:type="dcterms:W3CDTF">2009-09-08T06:32:09Z</dcterms:modified>
  <cp:revision>401</cp:revision>
  <dc:subject/>
  <dc:title>Rigid motions</dc:title>
</cp:coreProperties>
</file>